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A64E-4C38-480B-8E1D-E438EF17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9463-9369-44B1-BC8F-CA39215C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043D9-1363-489C-BA6C-48203CE1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E3434-AFC2-441B-B613-D9E676DA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F3D77-3985-40C9-B393-E106B34F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AA9E9-1615-4A77-9E48-9D27BFAA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194D3-6C52-4AF2-8886-95E5A43F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3035D-AB1A-4808-92C4-1343910F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BAA44-71FF-4BFA-8990-6A12F7F1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8BBD7-1D9A-4DD7-9B3A-24DE7F37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8888F-B4A7-4101-8CCF-4E171FCB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A2B25-26C4-4AA7-8848-5C368436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42C4-5675-42F0-9072-07493CBD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CF942-2CE1-42D5-97BE-EB8A8B41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DD88D-D081-4AF3-8333-5F783DE7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6CE92-D22E-4B90-93A8-E490BB95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61720-2AEB-43F7-9851-CFB7E096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E5DAB-5100-4157-BD60-202D9C0A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17DB4-988C-469F-8258-20A04EC9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47EA0-EBB9-48F4-8239-CD93274D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E07DD-340C-4CA2-A7D0-A2F27804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68B5A-48EC-4C15-ADAC-D7865CC2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DA93C-1F40-4538-9A8F-6E1CA09C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3AEC-517B-4AE5-8ACB-E1093A456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B4FAC-53AD-444F-9ED2-67E84620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97B9E-1519-4AEA-B684-24D259CD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C5C94-66B8-467A-BC12-ED26F9F7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E0CDA5-847A-41BA-AC2B-638B88CC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2D1F0-F6E5-4961-93B7-B3E6C55A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2DD2D-CB30-4F18-A9F7-670086F9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5FDDE-AF06-404A-B4CD-4F80AE58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F2A8D-140B-43AA-A06B-9CBEC503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D45F5-110A-44DC-9856-4FD9AF24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03FC8-1B0F-4278-8FEC-5EAF9DE0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B265-AA0F-4114-95D7-7A72AB34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394FB-8544-4253-83F6-68C635E4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56A51-2F44-49B0-AB88-B245D5B2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63B2B-643F-42C6-A230-11FF8783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2516E-45E5-4516-A0AF-62A35B13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7912C-CCF2-4CA8-A93E-0B081637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27655-79C3-41F2-878D-C573D816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68A0D-C79B-4426-8CD4-D9D41EC0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DEF0B-511A-40D2-A850-C4D5E92C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D2654-70C3-4129-8CC5-6B16860F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4DE94-53C5-4DA0-9651-CA46EAB3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9456-A850-401C-A42D-CD8BDDE2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97EEF-289C-4B70-A2F5-2AEB15B8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79D0F-435C-43B9-8204-EC079836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EDCF2-E2B1-4522-8209-5FDDB50C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DD6E1-9246-42FE-A49F-AABE9A61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4554C-5B17-443B-A99F-5B1F4BB6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FA9B-38D2-44E6-A641-6273EAFC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103B-EB75-41FC-AF23-5B093644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9460-C17A-4767-99B5-C277E0E3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F2E3-C263-4D96-AFDF-A3D336EE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40CF-9B45-40FD-94B4-51647752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A49B-839C-430E-B0EE-CA16B848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B6F9-99C9-4375-B630-4AF0375E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99E2-05C2-4497-AF12-36890340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0123-1BD7-496E-A785-42DB65CA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7773-DE36-486D-A4F7-B60C0502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A677-6727-4FEA-A52C-53470DD7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796F5-00BA-4E7C-82E4-A6A9BAEB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D079A-CDA3-430A-82AC-985245D2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8DF113-0CCA-4022-8082-AD06CBE1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883A5-8BAD-414C-8C1A-19EBE975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C3F42-4A1B-467E-AB39-DD57E762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A0D6-794E-4B29-92A9-71D08F54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FA6EB-4AC4-4268-B6E4-F42A4490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8DBC7-1B1A-4D73-8342-F4C7EF92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AA256-B39B-483E-8832-7BA475A7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41F93F-4075-42B0-87A2-9F11F251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54C61C-2D87-48B3-917B-31DE8EF8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3105E7-6304-45C1-A847-D26AB72D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9642C-C1A3-43B3-A990-873FF1A7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3237B-88A6-4722-A4CE-28959BF6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2A492-6F4A-414F-A35F-1530407F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3767C-049D-4855-B651-581BB903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C591-F493-43D4-8980-1A545CDB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C1BCF-9CA1-45B6-931D-CC26A37E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A5C78-4497-47EA-A0FB-818B7004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5673B-5E72-457B-A05F-6A7D05C8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E8D14-5449-416A-9930-FF78ED57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F7D89-B47F-4060-A527-45396A9B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7F3A5-089C-4666-990B-44020A4E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C9959-C2B0-4FA1-A9F6-0EDFE97A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E36C1-1EAC-4FF2-815E-3FD25964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19434-9D8C-4F80-92AB-E0A83021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C2C03-71B2-44E3-A782-28FEC256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8EF1-BEF8-4C94-9A48-1B76D46F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2C9D0-AF7E-4FFF-B083-2F71D6DE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54B04-CF23-43A2-AF1D-29AC594D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91E52-3748-4CCB-883B-04FD840C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224F5-ED6E-4B11-BA08-D24CDDF6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F49D4-CB51-4113-9CF0-FCADAF67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75016-D110-4670-8A46-6A850A9B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54F08-A74E-4E38-BEC2-BB1CD16F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99157-9BA3-4D61-B5EE-236FD45B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1F326-5FC5-4DD1-A1EA-48FD5E84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1E60A-1D4C-4308-89A4-41FD805B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6F8-2C74-4C19-8E21-27602259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8390B-E750-47C9-9E46-6DB9E60C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A145F-2C78-4D05-AE1A-297517CE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02FF5-CA0F-4DD3-BF32-96C1252C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B1A23-E259-4D84-9AA1-A6810AD1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80283-2F73-4B37-9A6C-E4082FF4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0EB0A-0A4F-417C-9109-95022840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312C8-A59B-4B72-8D9D-B3DBF817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96759-F54D-4FCE-BDF4-3E662EA6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6879B-2AD2-4075-B93D-C6B8725E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395AC-F9CD-47C9-A280-888B3367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AD08-6FE2-46A1-B369-37EB98BD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4B786-24C1-4107-B8D1-4973B4D3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768AB-820E-4720-8AFD-05FD1385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16D48-BF2C-4CA1-98FF-EB1B4EA1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1F2ED-C571-4616-B483-9FC4919C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523D3-9D69-4334-B56A-F04A3807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14A34-3B92-4323-B278-FD95DF1E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809F7-DB3A-444E-BC38-0DDF76D8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2531E-F29B-4C7D-A353-92C3FCDC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7B4BE-E39B-4037-BA15-48FFA2F3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7CFC3-EE74-4EF3-A308-F895F80B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073-43CF-4E2F-B37B-4FC269FA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7FF64-6FBC-4D20-81F4-2B3FA9A5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96AC9-CBCA-4563-B8BC-BD430E9A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24807-ADCA-4E48-96F9-667168E6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2A726-4F37-4288-B056-7E7CA4271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97BE0-0D32-4349-B588-CE37FF18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50D7B-36E9-4C77-BDED-F5BFB3D6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06D0F-23AD-4650-A9A9-FDA1FE2F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0894E-8D54-4FC2-B702-D2981CCA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4F24A-E6CC-4A27-9C67-DAB89F52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3D0AE-BA17-4ACF-B151-9B2266BD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6A4E-56A4-44D9-8507-490D3425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D9478-4761-4B86-A849-9AAF4091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2B374-57ED-4A84-843D-9B667CA1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5B8B1-191C-4C0E-80DB-C72684D6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F2949-1C29-4B19-A56C-4EBEC2E6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B8E55-B292-4766-A6FB-AF437B08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63135-B962-4454-AE70-FAD6A9E9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BAE83-1E1E-475D-8C65-65012046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C1758F-BB7C-4A2C-A8C7-26293F71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61475-8054-4DA4-8F5C-D3991B50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204F6-9FCA-4E17-B2E1-B5A2E863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09.xml"/><Relationship Id="rId25" Type="http://schemas.openxmlformats.org/officeDocument/2006/relationships/slideLayout" Target="../slideLayouts/slideLayout110.xml"/><Relationship Id="rId26" Type="http://schemas.openxmlformats.org/officeDocument/2006/relationships/slideLayout" Target="../slideLayouts/slideLayout111.xml"/><Relationship Id="rId27" Type="http://schemas.openxmlformats.org/officeDocument/2006/relationships/slideLayout" Target="../slideLayouts/slideLayout112.xml"/><Relationship Id="rId28" Type="http://schemas.openxmlformats.org/officeDocument/2006/relationships/slideLayout" Target="../slideLayouts/slideLayout113.xml"/><Relationship Id="rId29" Type="http://schemas.openxmlformats.org/officeDocument/2006/relationships/slideLayout" Target="../slideLayouts/slideLayout114.xml"/><Relationship Id="rId30" Type="http://schemas.openxmlformats.org/officeDocument/2006/relationships/slideLayout" Target="../slideLayouts/slideLayout115.xml"/><Relationship Id="rId31" Type="http://schemas.openxmlformats.org/officeDocument/2006/relationships/slideLayout" Target="../slideLayouts/slideLayout116.xml"/><Relationship Id="rId32" Type="http://schemas.openxmlformats.org/officeDocument/2006/relationships/slideLayout" Target="../slideLayouts/slideLayout117.xml"/><Relationship Id="rId33" Type="http://schemas.openxmlformats.org/officeDocument/2006/relationships/slideLayout" Target="../slideLayouts/slideLayout118.xml"/><Relationship Id="rId34" Type="http://schemas.openxmlformats.org/officeDocument/2006/relationships/slideLayout" Target="../slideLayouts/slideLayout119.xml"/><Relationship Id="rId3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21.xml"/><Relationship Id="rId25" Type="http://schemas.openxmlformats.org/officeDocument/2006/relationships/slideLayout" Target="../slideLayouts/slideLayout122.xml"/><Relationship Id="rId26" Type="http://schemas.openxmlformats.org/officeDocument/2006/relationships/slideLayout" Target="../slideLayouts/slideLayout123.xml"/><Relationship Id="rId27" Type="http://schemas.openxmlformats.org/officeDocument/2006/relationships/slideLayout" Target="../slideLayouts/slideLayout124.xml"/><Relationship Id="rId28" Type="http://schemas.openxmlformats.org/officeDocument/2006/relationships/slideLayout" Target="../slideLayouts/slideLayout125.xml"/><Relationship Id="rId29" Type="http://schemas.openxmlformats.org/officeDocument/2006/relationships/slideLayout" Target="../slideLayouts/slideLayout126.xml"/><Relationship Id="rId30" Type="http://schemas.openxmlformats.org/officeDocument/2006/relationships/slideLayout" Target="../slideLayouts/slideLayout127.xml"/><Relationship Id="rId31" Type="http://schemas.openxmlformats.org/officeDocument/2006/relationships/slideLayout" Target="../slideLayouts/slideLayout128.xml"/><Relationship Id="rId32" Type="http://schemas.openxmlformats.org/officeDocument/2006/relationships/slideLayout" Target="../slideLayouts/slideLayout129.xml"/><Relationship Id="rId33" Type="http://schemas.openxmlformats.org/officeDocument/2006/relationships/slideLayout" Target="../slideLayouts/slideLayout130.xml"/><Relationship Id="rId34" Type="http://schemas.openxmlformats.org/officeDocument/2006/relationships/slideLayout" Target="../slideLayouts/slideLayout131.xml"/><Relationship Id="rId3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image" Target="../media/image30.png"/><Relationship Id="rId27" Type="http://schemas.openxmlformats.org/officeDocument/2006/relationships/image" Target="../media/image31.png"/><Relationship Id="rId28" Type="http://schemas.openxmlformats.org/officeDocument/2006/relationships/image" Target="../media/image32.png"/><Relationship Id="rId29" Type="http://schemas.openxmlformats.org/officeDocument/2006/relationships/image" Target="../media/image33.png"/><Relationship Id="rId30" Type="http://schemas.openxmlformats.org/officeDocument/2006/relationships/image" Target="../media/image34.png"/><Relationship Id="rId31" Type="http://schemas.openxmlformats.org/officeDocument/2006/relationships/image" Target="../media/image34.png"/><Relationship Id="rId32" Type="http://schemas.openxmlformats.org/officeDocument/2006/relationships/slideLayout" Target="../slideLayouts/slideLayout133.xml"/><Relationship Id="rId33" Type="http://schemas.openxmlformats.org/officeDocument/2006/relationships/slideLayout" Target="../slideLayouts/slideLayout134.xml"/><Relationship Id="rId34" Type="http://schemas.openxmlformats.org/officeDocument/2006/relationships/slideLayout" Target="../slideLayouts/slideLayout135.xml"/><Relationship Id="rId35" Type="http://schemas.openxmlformats.org/officeDocument/2006/relationships/slideLayout" Target="../slideLayouts/slideLayout136.xml"/><Relationship Id="rId36" Type="http://schemas.openxmlformats.org/officeDocument/2006/relationships/slideLayout" Target="../slideLayouts/slideLayout137.xml"/><Relationship Id="rId37" Type="http://schemas.openxmlformats.org/officeDocument/2006/relationships/slideLayout" Target="../slideLayouts/slideLayout138.xml"/><Relationship Id="rId38" Type="http://schemas.openxmlformats.org/officeDocument/2006/relationships/slideLayout" Target="../slideLayouts/slideLayout139.xml"/><Relationship Id="rId39" Type="http://schemas.openxmlformats.org/officeDocument/2006/relationships/slideLayout" Target="../slideLayouts/slideLayout140.xml"/><Relationship Id="rId40" Type="http://schemas.openxmlformats.org/officeDocument/2006/relationships/slideLayout" Target="../slideLayouts/slideLayout141.xml"/><Relationship Id="rId41" Type="http://schemas.openxmlformats.org/officeDocument/2006/relationships/slideLayout" Target="../slideLayouts/slideLayout142.xml"/><Relationship Id="rId42" Type="http://schemas.openxmlformats.org/officeDocument/2006/relationships/slideLayout" Target="../slideLayouts/slideLayout143.xml"/><Relationship Id="rId4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3.xml"/><Relationship Id="rId25" Type="http://schemas.openxmlformats.org/officeDocument/2006/relationships/slideLayout" Target="../slideLayouts/slideLayout14.xml"/><Relationship Id="rId26" Type="http://schemas.openxmlformats.org/officeDocument/2006/relationships/slideLayout" Target="../slideLayouts/slideLayout15.xml"/><Relationship Id="rId27" Type="http://schemas.openxmlformats.org/officeDocument/2006/relationships/slideLayout" Target="../slideLayouts/slideLayout16.xml"/><Relationship Id="rId28" Type="http://schemas.openxmlformats.org/officeDocument/2006/relationships/slideLayout" Target="../slideLayouts/slideLayout17.xml"/><Relationship Id="rId29" Type="http://schemas.openxmlformats.org/officeDocument/2006/relationships/slideLayout" Target="../slideLayouts/slideLayout18.xml"/><Relationship Id="rId30" Type="http://schemas.openxmlformats.org/officeDocument/2006/relationships/slideLayout" Target="../slideLayouts/slideLayout19.xml"/><Relationship Id="rId31" Type="http://schemas.openxmlformats.org/officeDocument/2006/relationships/slideLayout" Target="../slideLayouts/slideLayout20.xml"/><Relationship Id="rId32" Type="http://schemas.openxmlformats.org/officeDocument/2006/relationships/slideLayout" Target="../slideLayouts/slideLayout21.xml"/><Relationship Id="rId33" Type="http://schemas.openxmlformats.org/officeDocument/2006/relationships/slideLayout" Target="../slideLayouts/slideLayout22.xml"/><Relationship Id="rId34" Type="http://schemas.openxmlformats.org/officeDocument/2006/relationships/slideLayout" Target="../slideLayouts/slideLayout23.xml"/><Relationship Id="rId3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8A00-8259-4F4C-9E24-141764CFCEC6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426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427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8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9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33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434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37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3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444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5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6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7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8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9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0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1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E042-C71B-47AA-AEEF-91BFD6444876}" type="datetime">
              <a:rPr b="0" lang="en-US" sz="900" spc="-1" strike="noStrike">
                <a:solidFill>
                  <a:srgbClr val="404040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3C30-C206-40CD-B5C3-B2FB4A0D6953}" type="slidenum"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4"/>
    <p:sldLayoutId id="2147483767" r:id="rId25"/>
    <p:sldLayoutId id="2147483768" r:id="rId26"/>
    <p:sldLayoutId id="2147483769" r:id="rId27"/>
    <p:sldLayoutId id="2147483770" r:id="rId28"/>
    <p:sldLayoutId id="2147483771" r:id="rId29"/>
    <p:sldLayoutId id="2147483772" r:id="rId30"/>
    <p:sldLayoutId id="2147483773" r:id="rId31"/>
    <p:sldLayoutId id="2147483774" r:id="rId32"/>
    <p:sldLayoutId id="2147483775" r:id="rId33"/>
    <p:sldLayoutId id="2147483776" r:id="rId34"/>
    <p:sldLayoutId id="2147483777" r:id="rId3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494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495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6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8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9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0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1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502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3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5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7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9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0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1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512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5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7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9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4EE1-3A05-4FF0-B564-B1065F8E8E44}" type="datetime">
              <a:rPr b="0" lang="en-US" sz="900" spc="-1" strike="noStrike">
                <a:solidFill>
                  <a:srgbClr val="404040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63DA-11B9-4489-B0CE-6247563206BE}" type="slidenum"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4"/>
    <p:sldLayoutId id="2147483780" r:id="rId25"/>
    <p:sldLayoutId id="2147483781" r:id="rId26"/>
    <p:sldLayoutId id="2147483782" r:id="rId27"/>
    <p:sldLayoutId id="2147483783" r:id="rId28"/>
    <p:sldLayoutId id="2147483784" r:id="rId29"/>
    <p:sldLayoutId id="2147483785" r:id="rId30"/>
    <p:sldLayoutId id="2147483786" r:id="rId31"/>
    <p:sldLayoutId id="2147483787" r:id="rId32"/>
    <p:sldLayoutId id="2147483788" r:id="rId33"/>
    <p:sldLayoutId id="2147483789" r:id="rId34"/>
    <p:sldLayoutId id="2147483790" r:id="rId3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562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563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4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6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7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8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9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570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2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3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4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5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8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9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580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1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3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6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7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88" name="Group 120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589" name="Oval 121"/>
            <p:cNvGrpSpPr/>
            <p:nvPr/>
          </p:nvGrpSpPr>
          <p:grpSpPr>
            <a:xfrm>
              <a:off x="5457240" y="1424880"/>
              <a:ext cx="1108800" cy="1099080"/>
              <a:chOff x="5457240" y="1424880"/>
              <a:chExt cx="1108800" cy="1099080"/>
            </a:xfrm>
          </p:grpSpPr>
          <p:pic>
            <p:nvPicPr>
              <p:cNvPr id="590" name="Oval 12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57240" y="1424880"/>
                <a:ext cx="11088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"/>
              <p:cNvSpPr/>
              <p:nvPr/>
            </p:nvSpPr>
            <p:spPr>
              <a:xfrm>
                <a:off x="5635440" y="1600920"/>
                <a:ext cx="75132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Oval 122"/>
            <p:cNvGrpSpPr/>
            <p:nvPr/>
          </p:nvGrpSpPr>
          <p:grpSpPr>
            <a:xfrm>
              <a:off x="5624280" y="1401120"/>
              <a:ext cx="858240" cy="844920"/>
              <a:chOff x="5624280" y="1401120"/>
              <a:chExt cx="858240" cy="844920"/>
            </a:xfrm>
          </p:grpSpPr>
          <p:pic>
            <p:nvPicPr>
              <p:cNvPr id="593" name="Oval 12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4280" y="1401120"/>
                <a:ext cx="85824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4" name=""/>
              <p:cNvSpPr/>
              <p:nvPr/>
            </p:nvSpPr>
            <p:spPr>
              <a:xfrm>
                <a:off x="5766480" y="1540080"/>
                <a:ext cx="57420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Oval 123"/>
            <p:cNvGrpSpPr/>
            <p:nvPr/>
          </p:nvGrpSpPr>
          <p:grpSpPr>
            <a:xfrm>
              <a:off x="5242680" y="1868040"/>
              <a:ext cx="631800" cy="626400"/>
              <a:chOff x="5242680" y="1868040"/>
              <a:chExt cx="631800" cy="626400"/>
            </a:xfrm>
          </p:grpSpPr>
          <p:pic>
            <p:nvPicPr>
              <p:cNvPr id="596" name="Oval 123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68040"/>
                <a:ext cx="63180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"/>
              <p:cNvSpPr/>
              <p:nvPr/>
            </p:nvSpPr>
            <p:spPr>
              <a:xfrm>
                <a:off x="5348160" y="1975680"/>
                <a:ext cx="41652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Oval 124"/>
            <p:cNvGrpSpPr/>
            <p:nvPr/>
          </p:nvGrpSpPr>
          <p:grpSpPr>
            <a:xfrm>
              <a:off x="5403600" y="1791360"/>
              <a:ext cx="524520" cy="514080"/>
              <a:chOff x="5403600" y="1791360"/>
              <a:chExt cx="524520" cy="514080"/>
            </a:xfrm>
          </p:grpSpPr>
          <p:pic>
            <p:nvPicPr>
              <p:cNvPr id="599" name="Oval 124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3600" y="1791360"/>
                <a:ext cx="5245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>
                <a:off x="5496120" y="1879200"/>
                <a:ext cx="338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Oval 126"/>
            <p:cNvGrpSpPr/>
            <p:nvPr/>
          </p:nvGrpSpPr>
          <p:grpSpPr>
            <a:xfrm>
              <a:off x="4718160" y="2051280"/>
              <a:ext cx="291960" cy="289440"/>
              <a:chOff x="4718160" y="2051280"/>
              <a:chExt cx="291960" cy="289440"/>
            </a:xfrm>
          </p:grpSpPr>
          <p:pic>
            <p:nvPicPr>
              <p:cNvPr id="602" name="Oval 126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19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"/>
              <p:cNvSpPr/>
              <p:nvPr/>
            </p:nvSpPr>
            <p:spPr>
              <a:xfrm>
                <a:off x="4773240" y="210996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Oval 127"/>
            <p:cNvGrpSpPr/>
            <p:nvPr/>
          </p:nvGrpSpPr>
          <p:grpSpPr>
            <a:xfrm>
              <a:off x="6095160" y="993600"/>
              <a:ext cx="298080" cy="295200"/>
              <a:chOff x="6095160" y="993600"/>
              <a:chExt cx="298080" cy="295200"/>
            </a:xfrm>
          </p:grpSpPr>
          <p:pic>
            <p:nvPicPr>
              <p:cNvPr id="605" name="Oval 127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5160" y="993600"/>
                <a:ext cx="2980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6155280" y="105300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Oval 128"/>
            <p:cNvGrpSpPr/>
            <p:nvPr/>
          </p:nvGrpSpPr>
          <p:grpSpPr>
            <a:xfrm>
              <a:off x="5045760" y="1868040"/>
              <a:ext cx="238320" cy="236160"/>
              <a:chOff x="5045760" y="1868040"/>
              <a:chExt cx="238320" cy="236160"/>
            </a:xfrm>
          </p:grpSpPr>
          <p:pic>
            <p:nvPicPr>
              <p:cNvPr id="608" name="Oval 128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45760" y="186804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9" name=""/>
              <p:cNvSpPr/>
              <p:nvPr/>
            </p:nvSpPr>
            <p:spPr>
              <a:xfrm>
                <a:off x="5097600" y="19180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Oval 129"/>
            <p:cNvGrpSpPr/>
            <p:nvPr/>
          </p:nvGrpSpPr>
          <p:grpSpPr>
            <a:xfrm>
              <a:off x="6113160" y="1058400"/>
              <a:ext cx="238320" cy="236160"/>
              <a:chOff x="6113160" y="1058400"/>
              <a:chExt cx="238320" cy="236160"/>
            </a:xfrm>
          </p:grpSpPr>
          <p:pic>
            <p:nvPicPr>
              <p:cNvPr id="611" name="Oval 129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3160" y="105840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"/>
              <p:cNvSpPr/>
              <p:nvPr/>
            </p:nvSpPr>
            <p:spPr>
              <a:xfrm>
                <a:off x="6163200" y="11098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3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3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3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A11E-EEDD-4114-8A69-BBC2AA89CB7D}" type="slidenum"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2"/>
    <p:sldLayoutId id="2147483793" r:id="rId33"/>
    <p:sldLayoutId id="2147483794" r:id="rId34"/>
    <p:sldLayoutId id="2147483795" r:id="rId35"/>
    <p:sldLayoutId id="2147483796" r:id="rId36"/>
    <p:sldLayoutId id="2147483797" r:id="rId37"/>
    <p:sldLayoutId id="2147483798" r:id="rId38"/>
    <p:sldLayoutId id="2147483799" r:id="rId39"/>
    <p:sldLayoutId id="2147483800" r:id="rId40"/>
    <p:sldLayoutId id="2147483801" r:id="rId41"/>
    <p:sldLayoutId id="2147483802" r:id="rId42"/>
    <p:sldLayoutId id="2147483803" r:id="rId4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45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46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53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63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8D63-D1A3-40D6-9C3C-82E618277166}" type="slidenum">
              <a:rPr b="0" lang="en-US" sz="24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4"/>
    <p:sldLayoutId id="2147483663" r:id="rId25"/>
    <p:sldLayoutId id="2147483664" r:id="rId26"/>
    <p:sldLayoutId id="2147483665" r:id="rId27"/>
    <p:sldLayoutId id="2147483666" r:id="rId28"/>
    <p:sldLayoutId id="2147483667" r:id="rId29"/>
    <p:sldLayoutId id="2147483668" r:id="rId30"/>
    <p:sldLayoutId id="2147483669" r:id="rId31"/>
    <p:sldLayoutId id="2147483670" r:id="rId32"/>
    <p:sldLayoutId id="2147483671" r:id="rId33"/>
    <p:sldLayoutId id="2147483672" r:id="rId34"/>
    <p:sldLayoutId id="2147483673" r:id="rId3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0"/>
          <p:cNvSpPr/>
          <p:nvPr/>
        </p:nvSpPr>
        <p:spPr>
          <a:xfrm>
            <a:off x="341280" y="928800"/>
            <a:ext cx="8433000" cy="17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57200" y="817560"/>
            <a:ext cx="8229600" cy="1173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4" descr="TitleSlideTop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357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TitleSlideBottom.jpg"/>
          <p:cNvPicPr/>
          <p:nvPr/>
        </p:nvPicPr>
        <p:blipFill>
          <a:blip r:embed="rId3"/>
          <a:stretch/>
        </p:blipFill>
        <p:spPr>
          <a:xfrm>
            <a:off x="457200" y="2700360"/>
            <a:ext cx="8229600" cy="3700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C06D-FC0F-475B-A4FF-FF8A4EBEC06B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8"/>
          </p:nvPr>
        </p:nvSpPr>
        <p:spPr>
          <a:xfrm>
            <a:off x="4305240" y="649296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9986-140E-40D7-8F99-9F21B6238414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9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"/>
          <p:cNvSpPr/>
          <p:nvPr/>
        </p:nvSpPr>
        <p:spPr>
          <a:xfrm>
            <a:off x="326880" y="363600"/>
            <a:ext cx="843912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SectionHeaderLeft.jpg"/>
          <p:cNvPicPr/>
          <p:nvPr/>
        </p:nvPicPr>
        <p:blipFill>
          <a:blip r:embed="rId2"/>
          <a:stretch/>
        </p:blipFill>
        <p:spPr>
          <a:xfrm>
            <a:off x="469800" y="457200"/>
            <a:ext cx="2217960" cy="59436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2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 rot="5400000">
            <a:off x="-22320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8B05-A3B8-473D-B62E-1A789C57FEF7}" type="datetime">
              <a:rPr b="1" lang="en-US" sz="1100" spc="-1" strike="noStrike">
                <a:solidFill>
                  <a:srgbClr val="a6a6a6"/>
                </a:solidFill>
                <a:latin typeface="Calibri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4306680" y="649296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a6a6a6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6D6B-F27E-4AF9-B462-D96792E92523}" type="slidenum">
              <a:rPr b="1" lang="en-US" sz="1100" spc="-1" strike="noStrike">
                <a:solidFill>
                  <a:srgbClr val="a6a6a6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0" descr="RunningTop-R.jpg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13827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6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457200" y="18414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0"/>
          <p:cNvSpPr/>
          <p:nvPr/>
        </p:nvSpPr>
        <p:spPr>
          <a:xfrm flipH="1">
            <a:off x="4572000" y="2797200"/>
            <a:ext cx="1440" cy="3375000"/>
          </a:xfrm>
          <a:prstGeom prst="line">
            <a:avLst/>
          </a:prstGeom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B55F-7173-4C74-A126-5F518273A78A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"/>
          <p:cNvSpPr/>
          <p:nvPr/>
        </p:nvSpPr>
        <p:spPr>
          <a:xfrm>
            <a:off x="355680" y="566640"/>
            <a:ext cx="8396280" cy="25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4AD2-6082-40B4-99B6-689A2586ED98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0"/>
          <p:cNvSpPr/>
          <p:nvPr/>
        </p:nvSpPr>
        <p:spPr>
          <a:xfrm>
            <a:off x="333360" y="566640"/>
            <a:ext cx="84549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457200" y="457200"/>
            <a:ext cx="8229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9633-8706-4519-94BF-A3C4E4130E64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"/>
          <p:cNvSpPr/>
          <p:nvPr/>
        </p:nvSpPr>
        <p:spPr>
          <a:xfrm>
            <a:off x="355680" y="347760"/>
            <a:ext cx="84326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2"/>
          <p:cNvSpPr/>
          <p:nvPr/>
        </p:nvSpPr>
        <p:spPr>
          <a:xfrm rot="5400000">
            <a:off x="5597640" y="3310560"/>
            <a:ext cx="5943600" cy="236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1F4B-903E-4083-9069-3071BB6093AB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"/>
          <p:cNvSpPr/>
          <p:nvPr/>
        </p:nvSpPr>
        <p:spPr>
          <a:xfrm>
            <a:off x="347760" y="363600"/>
            <a:ext cx="844056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2" descr="VerticalRight.jpg"/>
          <p:cNvPicPr/>
          <p:nvPr/>
        </p:nvPicPr>
        <p:blipFill>
          <a:blip r:embed="rId2"/>
          <a:stretch/>
        </p:blipFill>
        <p:spPr>
          <a:xfrm>
            <a:off x="7112160" y="457200"/>
            <a:ext cx="1546200" cy="59436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12"/>
          <p:cNvSpPr/>
          <p:nvPr/>
        </p:nvSpPr>
        <p:spPr>
          <a:xfrm rot="5400000">
            <a:off x="4073760" y="3369240"/>
            <a:ext cx="5943600" cy="119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3"/>
          <p:cNvSpPr/>
          <p:nvPr/>
        </p:nvSpPr>
        <p:spPr>
          <a:xfrm>
            <a:off x="320760" y="320760"/>
            <a:ext cx="8502480" cy="6216480"/>
          </a:xfrm>
          <a:prstGeom prst="rect">
            <a:avLst/>
          </a:prstGeom>
          <a:noFill/>
          <a:ln w="1260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Click to edit the outline text format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con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2" marL="8604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Third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3" marL="11430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our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4" marL="1425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5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  <a:p>
            <a:pPr lvl="6" marL="1425600" indent="-282600"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alisto MT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Calisto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5"/>
          </p:nvPr>
        </p:nvSpPr>
        <p:spPr>
          <a:xfrm>
            <a:off x="668988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6"/>
          </p:nvPr>
        </p:nvSpPr>
        <p:spPr>
          <a:xfrm>
            <a:off x="317520" y="6492960"/>
            <a:ext cx="341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7"/>
          </p:nvPr>
        </p:nvSpPr>
        <p:spPr>
          <a:xfrm>
            <a:off x="379440" y="6149520"/>
            <a:ext cx="533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99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A0A3-FEAF-4763-9821-F68050116E19}" type="slidenum">
              <a:rPr b="0" lang="en-US" sz="24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968040"/>
            <a:ext cx="7799400" cy="1236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990000"/>
                </a:solidFill>
                <a:latin typeface="Calisto MT"/>
              </a:rPr>
              <a:t>Action Research </a:t>
            </a:r>
            <a:br>
              <a:rPr sz="3700"/>
            </a:br>
            <a:r>
              <a:rPr b="0" lang="en-US" sz="3700" spc="-1" strike="noStrike">
                <a:solidFill>
                  <a:srgbClr val="990000"/>
                </a:solidFill>
                <a:latin typeface="Calisto MT"/>
              </a:rPr>
              <a:t>April 30, 2012</a:t>
            </a:r>
            <a:endParaRPr b="0" lang="en-US" sz="37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85440" y="2209680"/>
            <a:ext cx="7799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sto MT"/>
              </a:rPr>
              <a:t>Final Reports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sto MT"/>
              </a:rPr>
              <a:t>&amp; 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sto MT"/>
              </a:rPr>
              <a:t>Presentations</a:t>
            </a:r>
            <a:endParaRPr b="0" lang="en-US" sz="3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Reference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Citations match references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APA style and error free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Clarity of Writing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Report is well written  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Logical flow of ideas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Proper grammar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Correct spelling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Effective sentence structure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Report is well organized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Clear headings and subheadings, etc.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Other Considera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1080" indent="-27108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Identities have been protected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Tone is professionally respectful to colleagues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Report reflects genuine interest and focuses on issues that would be of interest to others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Either narrative style of telling a story, or more formal style of scientific research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Presentations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Audience &amp; Purpos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Who are the audiences?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What are our purposes in presenting to this audience?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What do we wish our audiences to know or understand?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What outcomes do we wish to achieve?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Introduction 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Focus of the project and problem statement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Participants involved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Purpose and desired outcome for the presentation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Body of the Presentation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What happened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Key issues from the research: what has been discovered, what is problematic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Implications: what needs to be done, what are the next action steps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Review categories and titles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Conclusion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Review of major points covered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Visual/Audio Materials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5410080" y="2438280"/>
            <a:ext cx="2895840" cy="36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Lists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Figures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Audio recording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Video recording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9" name="Content Placeholder 2"/>
          <p:cNvSpPr/>
          <p:nvPr/>
        </p:nvSpPr>
        <p:spPr>
          <a:xfrm>
            <a:off x="2438280" y="2438280"/>
            <a:ext cx="289584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c1ec7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c1ec7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c1ec7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Ar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1800"/>
              </a:spcBef>
              <a:buClr>
                <a:srgbClr val="c1ec7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Concept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Interactive Presentations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Allow for dyads or small group work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Allow for questions, comments, clarifications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Introduct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5320" indent="-26532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sto MT"/>
              </a:rPr>
              <a:t>Context and background about the research site</a:t>
            </a:r>
            <a:endParaRPr b="0" lang="en-US" sz="24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sto MT"/>
              </a:rPr>
              <a:t>Characteristics of the staff and students</a:t>
            </a:r>
            <a:endParaRPr b="0" lang="en-US" sz="24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sto MT"/>
              </a:rPr>
              <a:t>Focus of the research</a:t>
            </a:r>
            <a:endParaRPr b="0" lang="en-US" sz="24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sto MT"/>
              </a:rPr>
              <a:t>Who are you and what are you studying?</a:t>
            </a:r>
            <a:endParaRPr b="0" lang="en-US" sz="24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sto MT"/>
              </a:rPr>
              <a:t>Overview: clearly describes purpose of the project, context, interventions, objectives, goals, assumptions, and reflections</a:t>
            </a:r>
            <a:endParaRPr b="0" lang="en-US" sz="2400" spc="-1" strike="noStrike">
              <a:solidFill>
                <a:srgbClr val="262626"/>
              </a:solidFill>
              <a:latin typeface="Calisto MT"/>
            </a:endParaRPr>
          </a:p>
          <a:p>
            <a:pPr marL="265320" indent="-26532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Performances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2286000" y="2133720"/>
            <a:ext cx="619776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Drama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Role play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Song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Poetry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Dance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Visual artwork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Electronic media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alisto MT"/>
              </a:rPr>
              <a:t>Description of Research Process</a:t>
            </a:r>
            <a:endParaRPr b="0" lang="en-US" sz="4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2286000" y="2133720"/>
            <a:ext cx="61977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7040" indent="-25704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What did you do?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57040" indent="-25704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Description of the study is: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25600" indent="-26856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Sufficient: gives a clear picture of the project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25600" indent="-26856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Appropriate: provides necessary information to understand insights and conclusions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25600" indent="-26856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Vivid: reader can picture what occurred; tells a story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Literature Review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Research is synthesized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Discussion and thoughtful reflection of the literature as related to the action research project is articulated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Sources are appropriate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Problem Formulat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9920" indent="-25992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Research question is: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31360" indent="-27144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Significant: focuses on teaching and learning practices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31360" indent="-27144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Manageable: do-able within time constraints; not too broad or narrow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lvl="1" marL="531360" indent="-27144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Clearly Stated: the question accurately conveys the focus and scope of work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Data Collectio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Sources are appropriate and connected to research question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Instruments are described in text and provided in an appendix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73960" indent="-27396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Clear triangulation – data are collected from a variety of complementary instruments that provide multiple perspectives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Data Analysi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609120" y="2057040"/>
            <a:ext cx="78742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8400" indent="-2484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Analysis is reflective and insightful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48400" indent="-2484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Interpretation includes all the data sources and is clearly supported by the data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48400" indent="-2484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Findings are organized around the research questions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48400" indent="-2484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Patterns and themes are identified and related to the research question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  <a:p>
            <a:pPr marL="248400" indent="-2484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2626"/>
                </a:solidFill>
                <a:latin typeface="Calisto MT"/>
              </a:rPr>
              <a:t>Quotes and details are appropriately and adequately discussed</a:t>
            </a:r>
            <a:endParaRPr b="0" lang="en-US" sz="26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Action Plan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Logical plan for follow up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Actions are clearly described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Actions are a direct result from the research findings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Another scenario to research? Follow up or new ideas?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  <a:p>
            <a:pPr marL="271080" indent="-27108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Possible supports or impediments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58800" y="455400"/>
            <a:ext cx="7824960" cy="1323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r">
              <a:lnSpc>
                <a:spcPts val="54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alisto MT"/>
              </a:rPr>
              <a:t>Final Reflections</a:t>
            </a:r>
            <a:endParaRPr b="0" lang="en-US" sz="52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2286000" y="2285640"/>
            <a:ext cx="6197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18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sto MT"/>
              </a:rPr>
              <a:t>Thoughtful reflection of the action research process is provided</a:t>
            </a:r>
            <a:endParaRPr b="0" lang="en-US" sz="2800" spc="-1" strike="noStrike">
              <a:solidFill>
                <a:srgbClr val="262626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00:41:29Z</dcterms:created>
  <dc:creator>MFarrior</dc:creator>
  <dc:description/>
  <dc:language>en-US</dc:language>
  <cp:lastModifiedBy>Windows User</cp:lastModifiedBy>
  <dcterms:modified xsi:type="dcterms:W3CDTF">2012-01-30T19:06:32Z</dcterms:modified>
  <cp:revision>32</cp:revision>
  <dc:subject/>
  <dc:title>Action Research  February 8, 2011</dc:title>
</cp:coreProperties>
</file>